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411-C22B-4919-8310-9F8A3A8F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7FA-3E0F-46D2-8608-96048E02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F5B-B1B2-414B-8A56-85530C28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092-3F4D-4F18-A53A-B8C76255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66AC-47AC-45C1-8F9C-92EE5F42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517B-DC88-4A07-951C-AE86589E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6EC7-1528-46C8-BE39-1466614D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241A-48FB-4ACE-A638-B92E6F2F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7964-A797-4FC1-9B92-7160F566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966B-3532-456E-BF49-5DC51FB2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9596-DDD0-44CC-A7FE-CCDD259A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13B-07D2-458F-A558-BB102F36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FD9C-EF56-4014-B09B-AC8A9354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8AC7-70B1-44C6-ACDC-88579106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5836-DC81-4EA9-8F6F-AA345C15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E8BF-0F33-4D0D-B274-660DEC5E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CC68-F2B5-4646-AEBF-5F67E8E9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249-E983-47E3-8614-AA6A7BEF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514-D72C-486F-94CF-8A697E5E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5F8-5295-4A91-BF73-E0749A98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606-E3F2-451F-9FE1-6ECFBDF9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95D-D304-4A51-BEE8-D76990CE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C95-3F15-4013-947B-B3258ABA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79B-C17D-42B1-8AA1-313EFD9B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F0E6-5FCA-4653-A0CA-46E9151ED3B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7A8E-E2DB-4334-B283-A717BBCE8F2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ctive : investigate :: Journalist : _______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de, report, intrigue, instigate, inst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relationshi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dio : hearing :: tactile : ____________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on, taste, touch, sm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relationshi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55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allel structure practic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t Parallel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eacher said that he was a poor student because he wait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til the last minute to study for the exam, complet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s lab problems in a careless manner, and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his motivation wa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low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arallel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eacher said that he was a poor student because he wait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til the last minute to study for the exam, complet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s lab problems in a careless manner, and lack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write: 5 mi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about any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diom Practic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meant by the following idio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lessing in disgu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p on your shou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drop in the buc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fuel to the f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lap on the wr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same bo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cabulary practice-May change tens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are _______ in thinking you don’t have to study to p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vie was so _______ that the woman didn’t hear her baby c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ugger _______ the woman in the pa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hope you do not lead an ________ lif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should be ashamed of your ________ behav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Jungle-535 Questions to answer as we read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did the family go to Chicago after arriving in Americ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family most afraid of and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as the area around the stockyards lik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last paragraph the narrator chooses to use the pronou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is the family friend described as “mythical”? What does the family think will happen now that they have met up with hi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as the boarding house lik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morr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ish 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writing assig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y for t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6:07:55Z</dcterms:created>
  <dc:creator>Angie</dc:creator>
  <dc:description/>
  <dc:language>en-US</dc:language>
  <cp:lastModifiedBy>rebecca</cp:lastModifiedBy>
  <dcterms:modified xsi:type="dcterms:W3CDTF">2009-02-03T14:27:34Z</dcterms:modified>
  <cp:revision>3</cp:revision>
  <dc:subject/>
  <dc:title>DOA</dc:title>
</cp:coreProperties>
</file>